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28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breeze.wav" ContentType="audio/x-wav"/>
  <Override PartName="/ppt/media/image27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685C-8018-4524-B161-A6D3519D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B5C-FF7C-43E0-AE19-A3013253A5FA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6B50-80BD-4062-9EE9-9E1CBCB966D7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326C-D81F-4AA6-BA87-92EA34F452D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CD23-2FE6-4181-B834-DC89931255EF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09E-467B-492A-81F3-D8FA4E7F152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AE93-C43A-4857-861F-3E3C402587CF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 done at Hahn’s lab in Germany, Slit U inot barium, but didn’t understand the implocations.  He didn’t understand how the barium was produced. Sent reulsts to Mei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E3A-B8AC-422C-A42E-027940CD9EF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e and Von Frisch were in Sweden and Denmark. Cousin Otto was visiting on vacation. They figure out that the atom has been split. Water analogy. U stom is unstable. The nucleus is crowded w/ neutrons and protons. The nucleus is not like a brittle solid that can be cleaved or broken. It’s more like a liquid drop, wobbly and ready to divide at the slightest provocation, like the impact of a single neu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ron causes the atom to wobble and tear apart= f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2D5-76FC-41B3-8F5B-81D71C3CA39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6ED7-F0F7-453E-B994-FEA0E532E64A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C94-0EE9-4E90-BFBC-2D81635BD15F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74C-C0ED-4CE8-A8EA-D0C344675EB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7758-62CC-4C0B-824B-97D9B51F2F4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20B-0D5D-4C8E-9F32-B2DABC5E63E9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7803-2096-4896-A943-82CA7633FB87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CF2F-E928-4213-9B59-A0741B79DBB7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0B79-666F-48FA-8398-D7BB18FAF95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F658-D057-47E5-8B18-566C0360F6F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B477-0095-4F43-B749-57EEE9D1AC27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3B7E-922B-4037-85D6-81E58B585F18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0F76-1525-4601-8174-5649BC50D83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72B-69DC-431C-9C20-68E6429C06DB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637C-0FF8-43B3-9A1D-D8BCE6469D83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748-F078-4ACE-81FF-2BF2165D492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B20D-D9B1-4750-BCCF-D3C562771FE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A96A-9D66-4024-A4C3-76BFDD15095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8F37-18D7-4B9F-AC2F-DC3B30B60FF8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1971-19ED-4E30-BF35-D999366DD20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3D5A-3D8C-489E-A499-A530727D4E7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E875-42C3-47D9-8997-BCB45FAFF8D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76A-8D7D-4491-BEF9-13AD2113245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2DA1-6A5D-4C53-A0E0-0D2AA9BCD616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E5B-10CF-43BF-9ACD-F95E3BD3BD77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7BA-F3CC-487B-85D0-8FC6C4A8560A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505-E8F0-41FB-9958-5C572AEAC4D7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5B5-D9AB-4455-AF24-3C8356284A63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2D7F-7493-4671-83D5-95BA435441E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A6E-1E04-4D09-806C-00C26CD5F11B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E55-AF83-4C1D-A20B-AE2A8A87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1E0-A08A-4FF3-8877-ACD18078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96F-3E17-42E9-AB6D-1B448337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7AE-DB50-4502-BC0C-C8CC46F1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E64-D0C9-4CB5-AC89-05AC34B8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2E3-5F94-4A2A-AC62-F1E1031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B66-5FC6-4250-A179-3CC21BB7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50B-0A8A-4120-941D-26C1211B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7E1-4A7D-454B-8714-3CBBDCE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227-57F3-44BE-A05E-A1A5C31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751-DEF4-4EFA-A0D1-CA0386A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71E-854D-4881-89D8-B51B3F5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7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74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7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74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7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7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7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7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6C42-968D-4393-9F48-10B051F002FD}" type="slidenum">
              <a:rPr b="0" lang="en-US" sz="14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2WWatom.htm" TargetMode="External"/><Relationship Id="rId2" Type="http://schemas.openxmlformats.org/officeDocument/2006/relationships/hyperlink" Target="http://www.atomicarchive.com/Bios/Meitner.shtml" TargetMode="External"/><Relationship Id="rId3" Type="http://schemas.openxmlformats.org/officeDocument/2006/relationships/hyperlink" Target="http://images.google.com.eg/images?um=1&amp;hl=en&amp;client=firefox-a&amp;rls=org.mozilla:en-US:official&amp;q=1933+germany&amp;btnG=Search+Images" TargetMode="External"/><Relationship Id="rId4" Type="http://schemas.openxmlformats.org/officeDocument/2006/relationships/hyperlink" Target="http://www.aip.org/history/einstein/nuclear1.htm" TargetMode="External"/><Relationship Id="rId5" Type="http://schemas.openxmlformats.org/officeDocument/2006/relationships/hyperlink" Target="http://www-groups.dcs.st-and.ac.uk/~history/Mathematicians/Einstein.html" TargetMode="External"/><Relationship Id="rId6" Type="http://schemas.openxmlformats.org/officeDocument/2006/relationships/hyperlink" Target="http://www.pbs.org/wgbh/nova/einstein/" TargetMode="External"/><Relationship Id="rId7" Type="http://schemas.openxmlformats.org/officeDocument/2006/relationships/hyperlink" Target="http://www.spaceandmotion.com/albert-einstein-biography-pictures" TargetMode="External"/><Relationship Id="rId8" Type="http://schemas.openxmlformats.org/officeDocument/2006/relationships/hyperlink" Target="http://www.spaceandmotion.com/albert-einstein-biography-pictures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What is the role of Science in Society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Objectives: </a:t>
            </a:r>
            <a:br>
              <a:rPr sz="3600"/>
            </a:b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1. Identify and analyze ways advances in Science effect Society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2. Examine Ethics in Science in the political climate of World War 2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1930’s Science was atomic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676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German scientists were at the forefront of nuclear physics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5053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74b"/>
                </a:solidFill>
                <a:latin typeface="Arial"/>
              </a:rPr>
              <a:t>The Allies feared that Germany could develop an atomic bomb and use it in World War 2.</a:t>
            </a: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German Scienti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914400" y="2057400"/>
            <a:ext cx="79246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However, many German scientists were Jewish and left Germany because they had been fired from their jobs, their lives had been threatened, or they feared for their futures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ere Hitler’s policies toward Jews in German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7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Jewish Scientists leave German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85800" y="2209680"/>
            <a:ext cx="7391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1933 Law for the Restoration of Professional Civil Service. Out if not Aryan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1,600 scholars, 1/4 of physicists, 11 of whom won or would win a Nobel Prize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Meitner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The scientists who could have helped build the bomb left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Germany- Stayed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1938 Hahn &amp; Strassman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18288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Split an atom of uranium, but did understand the full implications of the experiment.</a:t>
            </a: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227340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30492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Ex-German Scientists -</a:t>
            </a: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 Described the first nuclear atom smashing experiment in February 1939. It was called fission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629400" y="2590920"/>
            <a:ext cx="2367000" cy="365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-4267080" y="3429000"/>
            <a:ext cx="18828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-4572000" y="-380880"/>
            <a:ext cx="1708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-487692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Edward Teller-left H Bomb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-3809880" y="5486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Heisenberg stayed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419720" y="4952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Von Frisch- Jewish Fired left for Denmark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297000" y="1981080"/>
            <a:ext cx="3492360" cy="4419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3733920" y="22096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Lise Meitner- Jewish Fired from University left for Sweden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692440" cy="3593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971800" y="152280"/>
            <a:ext cx="59436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An Aside…. Still in Germany- Heisenberg </a:t>
            </a: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took the lead in fission research in Germany during the War. 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He was a prominent physicist whose interest was primarily in theoretical physics</a:t>
            </a: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Germany didn’t develop the Atomic Bomb. But who knew then? The fear was real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4495680"/>
            <a:ext cx="868680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His role in Germany’s nuclear research is still controversial. Was he trying to sabotage the program? Incompetent? Doomed from lack of resources?</a:t>
            </a:r>
            <a:r>
              <a:rPr b="0" lang="en-US" sz="3000" spc="-1" strike="noStrike">
                <a:solidFill>
                  <a:srgbClr val="fff74b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74b"/>
                </a:solidFill>
                <a:latin typeface="Arial"/>
              </a:rPr>
              <a:t>* Watch the movie “Copenhagen” for more</a:t>
            </a:r>
            <a:r>
              <a:rPr b="0" lang="en-US" sz="3000" spc="-1" strike="noStrike">
                <a:solidFill>
                  <a:srgbClr val="fff74b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" y="228600"/>
            <a:ext cx="5486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Leo Szilard, with his friends Eugene Wigner and Edward Teller  are concerned with the developments in German research.</a:t>
            </a: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•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They are involved in and aware of current physics research in Europe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952880" y="19051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943600" y="1295280"/>
          <a:ext cx="2938320" cy="24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295280"/>
                    <a:ext cx="293832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28600"/>
            <a:ext cx="83822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74b"/>
                </a:solidFill>
                <a:latin typeface="Arial"/>
                <a:ea typeface="Osaka"/>
              </a:rPr>
              <a:t>“…</a:t>
            </a:r>
            <a:r>
              <a:rPr b="0" lang="en-US" sz="4000" spc="-1" strike="noStrike">
                <a:solidFill>
                  <a:srgbClr val="fff74b"/>
                </a:solidFill>
                <a:latin typeface="Arial"/>
                <a:ea typeface="Osaka"/>
              </a:rPr>
              <a:t>In certain circumstances, it might be possible to set up a nuclear chain reaction, liberate energy on an industrial scale, and construct atomic bombs.”</a:t>
            </a: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7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74b"/>
                </a:solidFill>
                <a:latin typeface="Arial"/>
                <a:ea typeface="ＭＳ Ｐゴシック"/>
              </a:rPr>
              <a:t>Szilard describes critical mass and a chain reaction that are possible with the German discovery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Leo Szilard is the motivating force behind the U.S. starting the development of the atomic bomb.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He worked on developing the bomb as part of the Manhattan Project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4330800" y="505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50" name="Picture 4" descr="nuclear_explosion"/>
          <p:cNvPicPr/>
          <p:nvPr/>
        </p:nvPicPr>
        <p:blipFill>
          <a:blip r:embed="rId1"/>
          <a:stretch/>
        </p:blipFill>
        <p:spPr>
          <a:xfrm>
            <a:off x="2743200" y="4191120"/>
            <a:ext cx="2819520" cy="2435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Case Study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The Development and Use of the Atomic Bomb in WW2: Einstein and Szila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Szilard, Wigner and Teller are concerned. How can they make the world notice? They are not famous, except as a scientists, and have no political influence.   </a:t>
            </a:r>
            <a:br>
              <a:rPr sz="4000"/>
            </a:br>
            <a:br>
              <a:rPr sz="5400"/>
            </a:br>
            <a:r>
              <a:rPr b="0" lang="en-US" sz="6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What can they do?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ould you do today to get a message out to the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Write your answer on your paper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6859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2959200" cy="221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Talk to Einstein.</a:t>
            </a:r>
            <a:br>
              <a:rPr sz="4400"/>
            </a:b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Einstein understands the politics of Germany and the physics of the bomb. He is the most famous scientist in the worl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6705720" y="3124080"/>
            <a:ext cx="186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380880"/>
            <a:ext cx="822960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 1905 Albert Einstein discovered that a large amount of energy could be released from a small amount of matter.</a:t>
            </a:r>
            <a:endParaRPr b="0" lang="en-US" sz="44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pecial Theory of Relativity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=mc</a:t>
            </a:r>
            <a:r>
              <a:rPr b="0" lang="en-US" sz="3200" spc="-1" strike="noStrike" baseline="30000">
                <a:solidFill>
                  <a:srgbClr val="ffe7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e701"/>
                </a:solidFill>
                <a:latin typeface="Arial"/>
              </a:rPr>
              <a:t>Energy= mass X speed of light squared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 the Pacifi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Bombs were not on his mind in developing the Special Theory of Relativity, E=mc</a:t>
            </a:r>
            <a:r>
              <a:rPr b="0" lang="en-US" sz="3600" spc="-1" strike="noStrike" baseline="30000">
                <a:solidFill>
                  <a:srgbClr val="ffe701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.  Einstein considered himself a pacifist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He wouldn’t fight in a war no matter the cause of it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19" name="Picture 4" descr="Einstein the Great"/>
          <p:cNvPicPr/>
          <p:nvPr/>
        </p:nvPicPr>
        <p:blipFill>
          <a:blip r:embed="rId1"/>
          <a:stretch/>
        </p:blipFill>
        <p:spPr>
          <a:xfrm>
            <a:off x="7010280" y="4191120"/>
            <a:ext cx="173988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  <p:sndAc>
      <p:stSnd>
        <p:snd r:embed="rId2" name="breez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85960" y="197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7621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My pacifism is an instinctive feeling, a feeling that possesses me because the murder of men is disgusting."</a:t>
            </a:r>
            <a:endParaRPr b="0" lang="en-US" sz="4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6172200" y="3505320"/>
            <a:ext cx="22906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Einstein won the Nobel Prize in 1921.In the early 1930’s he traveled and spoke for peace and disarmament. He had become a citizen of Austria since he disagreed with German military aggressiveness. 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 He received death threats starting in the 1920’s.</a:t>
            </a:r>
            <a:br>
              <a:rPr sz="28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 In 1933 when Hitler came to power, his house in Germany was attacked. He was traveling in the States and decided not to return to Germany.</a:t>
            </a:r>
            <a:br>
              <a:rPr sz="28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 Toured Europe.</a:t>
            </a:r>
            <a:br>
              <a:rPr sz="28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Emigrated to the U.S. and Princeton University in 1934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osition Chang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In 1933 the charismatic Hitler rose to power causing a great fear and hatred for him among the Jewish people including Einstein who changed his position on fighting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In 1938 Germany was able to split a uranium atom and was getting more aggressive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hysicists Leo Szilard,Eugene Wigner and Edward Teller became concerned with the recent aggression by Germany-- the invasion of Poland-  but they had no influence with those in power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They consulted with Einstein. Szilard wrote a letter to Roosevelt. Einstein signed it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In the first letter--October 1939-- Einstein stated the Germany is pursuing the interest of an A bomb and the U.S. should do the same. 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27" name="Picture 4" descr="300px-Adolf-Hitler-7"/>
          <p:cNvPicPr/>
          <p:nvPr/>
        </p:nvPicPr>
        <p:blipFill>
          <a:blip r:embed="rId1"/>
          <a:stretch/>
        </p:blipFill>
        <p:spPr>
          <a:xfrm>
            <a:off x="7620120" y="0"/>
            <a:ext cx="1226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’s Letter to Roosevelt- written by Szila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Roosevelt received the Letter from Einstein on October 11, 1939 from Alexander Sachs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fter Roosevelt read the letter he assigned a committee of people to study uranium chain reactions.</a:t>
            </a:r>
            <a:r>
              <a:rPr b="0" lang="en-US" sz="10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30" name="Picture 4" descr="EinsteinLetter1Large"/>
          <p:cNvPicPr/>
          <p:nvPr/>
        </p:nvPicPr>
        <p:blipFill>
          <a:blip r:embed="rId1"/>
          <a:stretch/>
        </p:blipFill>
        <p:spPr>
          <a:xfrm>
            <a:off x="1447920" y="3505320"/>
            <a:ext cx="2247840" cy="291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04502"/>
          <p:cNvPicPr/>
          <p:nvPr/>
        </p:nvPicPr>
        <p:blipFill>
          <a:blip r:embed="rId2"/>
          <a:stretch/>
        </p:blipFill>
        <p:spPr>
          <a:xfrm>
            <a:off x="4876920" y="3581280"/>
            <a:ext cx="2743200" cy="268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The Briggs Committe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FDR formed a committee to study uranium chain reactions after Germany invaded Poland in 1939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ccording to Leo, Eugene, and Einstein, progress was moving too slow. They wrote two more letters in March and April of 1940. 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The letters stated the interest Germany had taken in building a bomb, including the holding of uranium mines which is a fuel for atomic bombs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34" name="Picture 6" descr="Lyman-J-Briggs"/>
          <p:cNvPicPr/>
          <p:nvPr/>
        </p:nvPicPr>
        <p:blipFill>
          <a:blip r:embed="rId1"/>
          <a:stretch/>
        </p:blipFill>
        <p:spPr>
          <a:xfrm>
            <a:off x="6705720" y="152280"/>
            <a:ext cx="1523880" cy="14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390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 is known world-wide.</a:t>
            </a:r>
            <a:br>
              <a:rPr sz="4400"/>
            </a:b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Answer these questions on your paper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1. Was Einstein a mathematician or a scientist?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2. What is he famous for?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3. What facts do you know about him?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Need for Greater Spe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610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The British confirm that an atomic bomb could be built for war by Germany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mmediately following that report, the Briggs Committee accelerated the pace to create a bomb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n August of 1942, 10 months after the </a:t>
            </a: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bombing of Pearl Harbor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, the Bomb project was established and called the Manhattan Project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37" name="Picture 4" descr="GadgetLarge"/>
          <p:cNvPicPr/>
          <p:nvPr/>
        </p:nvPicPr>
        <p:blipFill>
          <a:blip r:embed="rId1"/>
          <a:stretch/>
        </p:blipFill>
        <p:spPr>
          <a:xfrm>
            <a:off x="4038480" y="5029200"/>
            <a:ext cx="510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’s Greatest Impa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instein did not work on the atomic bomb. People in the U.S. government didn’t trust him. 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atomic bomb could have been built without the letters Einstein signed, but it was the US’s early work on the A Bomb that allowed its development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Manhattan Project was formed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The Resul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uclear  Blasts over Hiroshima and Nagasaki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42" name="Picture 4" descr="atomicbomb"/>
          <p:cNvPicPr/>
          <p:nvPr/>
        </p:nvPicPr>
        <p:blipFill>
          <a:blip r:embed="rId1"/>
          <a:stretch/>
        </p:blipFill>
        <p:spPr>
          <a:xfrm>
            <a:off x="4038480" y="2590920"/>
            <a:ext cx="4496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ffects of the Bom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vastating Results: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45" name="Picture 4" descr="e13-3"/>
          <p:cNvPicPr/>
          <p:nvPr/>
        </p:nvPicPr>
        <p:blipFill>
          <a:blip r:embed="rId1"/>
          <a:stretch/>
        </p:blipFill>
        <p:spPr>
          <a:xfrm>
            <a:off x="4952880" y="1523880"/>
            <a:ext cx="4017960" cy="468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14-1-2e"/>
          <p:cNvPicPr/>
          <p:nvPr/>
        </p:nvPicPr>
        <p:blipFill>
          <a:blip r:embed="rId2"/>
          <a:stretch/>
        </p:blipFill>
        <p:spPr>
          <a:xfrm>
            <a:off x="762120" y="2743200"/>
            <a:ext cx="251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emor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instein felt very guilty for what he endorsed after he saw the destruction of Hiroshima and Nagasaki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 said “I made one of the worst mistakes in my life… when I signed the letter to President Roosevelt recommending that atom bombs be made, but there was some justification-the danger that the Germans would make them. 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49" name="Picture 4" descr="Einstein"/>
          <p:cNvPicPr/>
          <p:nvPr/>
        </p:nvPicPr>
        <p:blipFill>
          <a:blip r:embed="rId1"/>
          <a:stretch/>
        </p:blipFill>
        <p:spPr>
          <a:xfrm>
            <a:off x="6095880" y="4876920"/>
            <a:ext cx="2067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2590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52" name="Picture 4" descr="einstein1"/>
          <p:cNvPicPr/>
          <p:nvPr/>
        </p:nvPicPr>
        <p:blipFill>
          <a:blip r:embed="rId1"/>
          <a:stretch/>
        </p:blipFill>
        <p:spPr>
          <a:xfrm>
            <a:off x="2819520" y="1371600"/>
            <a:ext cx="59436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spartacus.schoolnet.co.uk/2WWatom.htm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atomicarchive.com/Bios/Meitner.shtml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images.google.com.eg/images?um=1&amp;hl=en&amp;client=firefox-a&amp;rls=org.mozilla%3Aen-US%3Aofficial&amp;q=1933+germany&amp;btnG=Search+Images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http://www.aip.org/history/einstein/nuclear1.htm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http://www-groups.dcs.st-and.ac.uk/~history/Mathematicians/Einstein.html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www.pbs.org/wgbh/nova/einstein/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www.alberteinstein.info/ 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www.spaceandmotion.com/albert-einstein-biography-pictures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http://www.spaceandmotion.com/albert-einstein-biography-pictures.htm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62120" y="914400"/>
            <a:ext cx="7391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74b"/>
                </a:solidFill>
                <a:latin typeface="Arial"/>
              </a:rPr>
              <a:t>Read Einstein’s first letter to FDR and answer the questions in complete sentences</a:t>
            </a:r>
            <a:r>
              <a:rPr b="0" lang="en-US" sz="4800" spc="-1" strike="noStrike">
                <a:solidFill>
                  <a:srgbClr val="fff74b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4191120" cy="3338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257800" y="37339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Albert Einstein</a:t>
            </a:r>
            <a:endParaRPr b="0" lang="en-US" sz="4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"Concern for man himself must always constitute the chief objective of all technological effort -- in such a manner as to assure that the results of our scientific thinking may be a blessing to mankind, and not a curse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as happening in the 1930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 Scienc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 Societ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1930’s Economic Clim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76520" y="20574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211840" y="144792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Worldwide Depression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260440" cy="226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6781680" y="4038480"/>
            <a:ext cx="1908360" cy="247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163836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2209680" cy="170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1989360" cy="20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6"/>
          <a:stretch/>
        </p:blipFill>
        <p:spPr>
          <a:xfrm>
            <a:off x="3276720" y="41911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32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is an economic depressio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475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1933 Political Climate- German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389320" cy="32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4290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2254320" cy="33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2895480" y="1295280"/>
            <a:ext cx="3429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How did Hitler come to power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ere his policies for German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4290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48:26Z</dcterms:created>
  <dc:creator>Charlson Lab</dc:creator>
  <dc:description/>
  <cp:keywords/>
  <dc:language>en-US</dc:language>
  <cp:lastModifiedBy>cac</cp:lastModifiedBy>
  <cp:lastPrinted>2009-02-05T12:53:05Z</cp:lastPrinted>
  <dcterms:modified xsi:type="dcterms:W3CDTF">2010-03-02T09:09:45Z</dcterms:modified>
  <cp:revision>112</cp:revision>
  <dc:subject/>
  <dc:title>PowerPoint Presentation  -  Einstein and the Atomic Bomb</dc:title>
</cp:coreProperties>
</file>